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CEE4-B87B-41BB-8C8F-89F6AD82D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7418-B433-4664-B7E0-D1F223D02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61D4-B73E-41C5-822C-B28CE1E15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2872-FDA3-4E14-BD9B-B304A9CE7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CA9D6-B652-42E4-9D40-AC7630FD4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4BC02-22C3-4BAD-8FF2-DEF729E47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2F2EE-68CD-4610-93AB-B74031B93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B367E-73BE-4A69-A9DF-DA2EE3389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9C269-53BC-4D82-BB81-EBE8286C3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3E436-CC5F-4956-AC9D-EB8976B85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D6691-2D69-4888-8522-30A25816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BB5B-8365-4CEB-B452-E453A41CA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CD380-3A89-42CB-996D-C461203A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DF14C-44FE-4196-9664-C1F3DB3E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DC4AC-A2CD-49B7-A03D-FC68B0263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75C0A-BE32-4DDC-AE7F-9409C80CA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838DF-FC44-476E-9B13-82446710F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21E7-5AB4-43C5-9AD3-62DCC51BC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F46E-F17E-44FB-A7D8-5C800576A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EA7C-F159-45A5-B6C3-50E62A137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BB02-6131-41F8-90E7-494AF7AAD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4489-C5F0-469A-9920-FB11A13D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FB93-5CB5-4638-8CA4-C62B7C97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7BAD-0955-4DDD-B7CC-152959B0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A105E-C282-4DF0-8491-296DEE65E7F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CC9B9-B617-4986-9D97-629012466EA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 ГОД И ПЛАНОВЫЙ ПЕРИОД 202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-202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02-06T00:14:14Z</dcterms:modified>
  <cp:revision>45</cp:revision>
  <dc:subject/>
  <dc:title>Структура собственных доходов на 2016 год бюджета Дальнереченского городского округа</dc:title>
</cp:coreProperties>
</file>